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02F-1275-4DB9-86A2-965E7599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8FA-1C9F-45AE-8C47-E26D0A48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4A0-1B7A-43C7-BB09-1B91ED0F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28D-98A1-429C-9D51-2D7C888E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454-CDD0-4B2E-A9D6-72E47D91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40A-16E1-4D63-ADB0-4118898A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62A-F621-4A04-8B18-A525558C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800-480E-4C6A-BE23-D93D0943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C11-CA89-4389-8B70-D0FF218F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77F-8773-42BF-A2D0-839BFA14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A29-BB45-4515-9DE5-33C91A01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B05A-BE31-4001-8486-D9D3BE9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288D-786D-4622-A3AB-7F3BC9E64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ingles-escrito-uah-08.wikispaces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OW TO JOIN THIS WIKISPACES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6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te your account at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ick a very clear and distinctive user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e.g. my username is guzman-manc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 your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er your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sit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ngles-escrito-uah-08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ick on JOIN THIS SPACE (top left cor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ait until I confirm your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22:17:07Z</dcterms:created>
  <dc:creator>**</dc:creator>
  <dc:description/>
  <dc:language>en-US</dc:language>
  <cp:lastModifiedBy>**</cp:lastModifiedBy>
  <dcterms:modified xsi:type="dcterms:W3CDTF">2008-09-10T08:57:48Z</dcterms:modified>
  <cp:revision>4</cp:revision>
  <dc:subject/>
  <dc:title>HOW TO JOIN THIS WIKISPACES WIKI</dc:title>
</cp:coreProperties>
</file>